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8E8-2E9D-40DD-AA33-78CE6F5A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EAC-2018-4C90-B525-85924BBF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02B-B21D-4E96-91CF-CB9E10B5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61B-7F92-4713-B06E-7DFDB48E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A8A-3550-40AF-9B46-277BEC6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137-9AFC-472D-8EF2-EBFC0880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580-DE13-456A-8977-850AA5FF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C2D-7374-49E0-914C-6CB96DC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953-2CEC-46B5-B639-3D2888C2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030-E3B1-4CE3-BCF3-2F9DE2B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4B5-FEF6-4BE5-9276-6DF30A1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8CB-53AF-451C-B861-721C5191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D6A2-44EC-4676-BB44-2245D231F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preadsheets.google.com/ccc?key=pINNryLt_vyDiPyHj11WiDg&amp;hl=en_US&amp;pli=1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: Brainstorming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discussions with W3C folks such as Ralph Swick, Karen Myers, Steve Bratt, Eric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is interested in working with external standards bodies such as HL7 and CDISC and express their content using Semantic Web specification such as RDF and OWL – Steve Bratt at the Bio IT World Lunch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 about W3C being a content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 Kisler emphasized that since W3C is providing only the languages, a collaboration would be synergistic and would mak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possible to develop a collaborative interest group with involvement of HL7, CDISC and others – conversation with Ralph S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proposed Solution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3886200"/>
            <a:ext cx="1219320" cy="1447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34120" y="54468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8640" y="1828800"/>
            <a:ext cx="1473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17800" y="2438280"/>
            <a:ext cx="1054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22640" y="331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50920" y="3352680"/>
            <a:ext cx="11300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1337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9400" y="2438280"/>
            <a:ext cx="224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28954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676520"/>
            <a:ext cx="16765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6320" y="46083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Models and Vocabularies used in Clinical Trials Context are different from those used in the Healthcare Delivery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the mapping a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Plug and Play of different Information Models and Vocabu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ho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mponent of the key goal of this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To gain acceptance from a wide variety of stakeholders in the healthcare and clinical trials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/RIM/DCM – seek alignment with healthcar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ISC/SDTM – seek alignment with clinical trial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appings across these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limitations and gaps across thes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ose data items that are required for patient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ose data items that are related to diabetes an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driven in some part by “mock” diabetes and hypertension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Step 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Trial Administrator uses the Protocol Specification Interface to specify the eligibility criteria. The data items are specified using elements from the SDTM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module translates the data items to the appropriate HL7/RIM/DCM re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queries are made to the Mediator/Gateway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tor/Gateway module translates the query into the underlying database query language. The query is executed at the database and sent to the mapping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module retranslates the data into terms from the SDTM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igibility Checking Module checks which patients satisfy the eligibility cri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lected patients are returned to the Clinical Trial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ome eligibility criteria may not be expressible using SPARQL queries and may required ru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: Narrow Scope for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rotocol for implementation #8 (second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Scope to Medications, Lab Tests and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linical Trials Ontology and Clinical Practic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ment with standards as closel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RDF data store based on data requirements and mock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Mapping module using N3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Eligibility checking module using SPAR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demonstrate another use case for Adverse Drug Event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fication of Eligibility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we will use an ontology or rule-based tool to specify eligibilit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o NLP/Ontology-based approaches that translate free text clinical protocol specifications that transform these into a structur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e 1 diabe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y of ketoacid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y of long-term therapy with insulin (&gt;30 days) within the last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 Criteria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 requirements for this need to be identified and spec’ed out. For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s on clinical data an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cope for P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want to see if the CT or HC communities have done some work on standards for specifying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cope for P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Choice: Eligibility Criteria as a “layer” around Data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Type 2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Problem: Keto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 Ins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: X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Period: [Date1, Date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ility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Type 2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History of Keto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History of Thera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= Ins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&gt; 3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Period &lt; 1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s: Goal/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various data items required for patient recruitment (modulo scope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st of requirements on the data content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preadsheets.google.com/ccc?key=pINNryLt_vyDiPyHj11WiDg&amp;hl=en_US&amp;pli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ata item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RIM/DCM construct(s) that models that data ite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CM column unde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SDTM construct(s) that models that data ite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DTM column unde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terminologies that model some of the values require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ology Columns including Snomed, MedDRA and NCI Thesa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data types and values that characterize the values of some of the data ite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Types and Units columns including those for RIM and 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be considering various constructs of HL7/RIM, Detailed Clinical Models and other models in conj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fro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yotishman Path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Russ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 Mo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Rutte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a Mirh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Feigenb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an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Rich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a Data Item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: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Therapy: 10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Date: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Date: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Information Mode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apy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anceAdministration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tion (subClass of ManufacturedMaterial, 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type of Participation called Consumable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in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tion.Name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Controlle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.Name =&gt; Controlled Vocabulary RxNorm (also known as Terminology Bin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s and Times =&gt; TS data type in H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d in the definition of data types … taken from the UCUM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Methodology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s between Information Model el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ic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EST, VSTESTCD = SYS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s between controlled vocabul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ic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Snomed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NCI Thesaurus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nomed Concept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NCI Thesaurus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Data Types a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:P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R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Choice: Leverage Existing Implementation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the Reasoner to compute eligibilit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DB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the NLP parser (if available) to parse the textual representation of the clinical trials criteria into structured queries, rules, what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cal: Eligibility Criteria in O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(hasProblem some DiabetesType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or hasHistory some Ketacidosi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sTherap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(some Therap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that hasLength all int[&gt;30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and hasTimePeriod all int[&lt; 36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for illustration purposes … need thorough and detailed analysis to get i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Design: Eligibility Criteria u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the_patient.hasProblem = DiabetesTy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he_patient.hasHistory = Ket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name =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length &gt;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timePeriod &lt; 3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_patient is eligible for the clinical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ppings always 1-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lways possible to get synonym mapp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to these mappings when there are changes in the information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mappings enough to enable a bi-directional flow through between EMR and Clinical trial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the value of semantic web (SW) specifications in bridging the divide between clinical practice and clinic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development of a proof of concept (POC) that demonstrates key value propositions of using SW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buy-in from a wide variety of stakeholders as a prelude to acceptance and adoption of semantic web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buy-in for the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wide participation and involvement of the key stakeholders in various stages of analysis, design and development of the P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existing standards, terminologies, data and information models of existing communities to increase the probability of ad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has been functioning in a consensus driven manner where opinions are sought at each step from all the stakeholders and a decision is taken based on the consensus so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realized that a critical success factor was to incorporate the views of various communities at each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1: Us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Development was lead by Rachel Rich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variety of use cases were investigated and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e Event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Patient Through a Clinical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: Focus on Patient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as assumed to be in an EM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-use of existing Informat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re-use EMR data for Clinical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7/RIM/DCM descriptions may be viewed as a “format” for Clinical Research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linical data in healthcare delivery systems and applications is represented or transformed into this “form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ISC/SDTM description may be viewed as a “format” for Clinical Research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linical data in clinical trials systems and application is represented or transformed into this form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ask questions in one “format” when the data represented in another “format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implement functionality to map across these “format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module should be flexible to incorporate extensions in the “forma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module should be flexible to “plug and play” with multiple “forma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2: Informat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variety of Information Models wer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7/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ISC/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Clinical Models from Intermountain 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R Ontology (Chimez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Criteria Ontology (He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are Delivery Encounter-based Meta Model (Parsa Mirha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ontology/information model is likely to fit the b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 as closely as possible to existing information model and terminology standards as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gaps and inadequacies in addressing the use case at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feedback to standards groups: CDISC, HL7/RIM, 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: Use CDISC/SDTM, Detailed Clinical Models, HL7/RIM as “seed” ontologies to begi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ly refine them as gaps and inadequacies are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e Re-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data from the EMR for Clinic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existing vocabularies, e.g., NCI Thesaurus, Snomed, Med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pre-existing information models e.g., HL7/RIM/DCM, SD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Re-use software components that can be used to enable a wide range of use c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se Drug Event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a Patient through a Clinical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he POC based on an implementation of these re-us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data retr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wrappers/tras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checking for elgibility criteria, adverse events and other clinical events of signific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d to implement POC on a real world data set as opposed to a synthetically created data set. This raised the following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an appropriate “seed’ Information Model/Ontology to descri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lthcare data based on current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appropriate terminologies (e.g., Snomed, LOINC, RxNorm) that need to be considered to capture coded information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lthcare data based on 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a Mirhaji provided the data and his feedback was crucial in identifying the appropriate “seed” model/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9:01:57Z</dcterms:created>
  <dc:creator>Partners Information Systems</dc:creator>
  <dc:description/>
  <dc:language>en-US</dc:language>
  <cp:lastModifiedBy>Partners Information Systems</cp:lastModifiedBy>
  <dcterms:modified xsi:type="dcterms:W3CDTF">2008-06-23T18:21:01Z</dcterms:modified>
  <cp:revision>35</cp:revision>
  <dc:subject/>
  <dc:title>COI: Functional Requirements</dc:title>
</cp:coreProperties>
</file>